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108-CE36-4AE6-855A-716C2B67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BF6-EF31-425E-9C7B-C94E0CA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7F7-AFA2-4524-A006-47442667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15C-6B5D-47C6-B0C0-1724EFBB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B50C-378F-4195-8F22-64EAE970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37A5-E296-4487-BB32-2A15EA5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3651-676A-40CF-9130-C3561F31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A144-247C-4029-A11F-4A6A4B36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42F-0EF3-46F0-A919-5FCDA37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98A-A0F8-4E28-9B61-B5760DB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369-6519-421B-9B8D-CF28A9F9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9F6-994C-4B0A-8554-5DCCEC0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D22-AD72-420F-BBF1-65CD3C7E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64CC-BCDD-42FA-975A-7650A5E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53F-2DFD-46D1-9E4D-F7168BB7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01CC-67FE-4CB6-8510-98E17F20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FFD-57DA-42A4-AE38-D1E73755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438-367F-4045-AA91-C0E32D85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46B-3FD4-4DF8-B82F-D73FD335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D83-B610-43CA-9B06-C14D6B5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24F-FD20-4528-A82F-45022285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FB3-BC03-4AD0-9B75-CD50356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C98-94FA-45A4-B374-C09B316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EE9-0D35-48FD-9B59-3C158C6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ABC-9298-4605-AB5E-EEA382327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853-2AAC-49F7-8F39-39D2FE177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Lo que todo Farmacéutico debe Saber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f. Alejandro Martínez 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NTIFICIA UNIVERSIDAD CATOLIC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a prueba de la Infrac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tará para dar por establecida la existencia de una infracción , el acta que levante el funcionario del servicio que practica la inspec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laración de la importancia de esta a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ben aclararse los posibles errores en los cuales puede incurrir el funcionario sanit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a Defen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d. es un profesional igual que el funcionario fiscalizador (recuérdelo siempre) por lo tanto no se amilane y plantee su descargo en forma tranquila pero con firme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escargo debe ser preparado , completo  y capaz de producir convi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a Defen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bjetivo: Desvirtuar  las afirmaciones del funcio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berá tender a acreditar que el contenido del acta es erróneo total o parcialmente y/o que hay motivos justificantes o atenuantes del presunto hecho infraccional o de la  participación  del presunto infract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banzas más us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cu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sti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forme de per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claraciones escritas de especia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a Sentencia Administrati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sentencia resume los hechos, determina la infracción  y la  sanción aplicada e individualiza al infractor o respons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 autoridad administrativa (Director del Servicio) da por establecida la  infracción en la sentencia , normalmente después  de la comparecencia con los medios de prueba , se puede recurrir de esa sentencia 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os Recurs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tificada la sentencia existen dos recursos que se pueden utilizar en forma independ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urso de Recla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urso de Re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urso de Reposi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nque no tiene plazo  es conveniente interponerlo ante el Director del Servicio  dentro de los cinco días hábiles siguientes a los de la notificación ( días azu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urso de Reposi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escrito de reposición o reconsideración  se debe argumentar lo que proceda  a fin  de que se reconsidere y deje sin efecto  la sanción  o se aplique una menor o ambas cosas a la vez o una en subsidio de la o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urso de Reposi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recurrir se debe considerar e invocar que cuando se trata de una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rimera infr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y aparecieran antecedentes que lo justifiquen, el Director podrá dejar sin efecto la multa  y demás sanciones  a cambio de apercibir  y amonestar al infra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da pendiente el plazo para interponer  el recurso jurisdiccional que a continuación se ver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urso de Reclamación (jurisdiccional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interpone antes del Juez de let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ntro de los cinco días posteriores a la notificación de la sentencia o posteriores a la notificación de la resolución  del recurso de re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Quienes realizan la Inspección y allanamient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cumento inicial en que consten los hech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nistro de 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echos del Farmacéutico al resp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urso de Reclamación (jurisdiccional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interponer este recurso  es necesario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haber pagado,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nte la autoridad sanitaria  que sancionó, la multa que hubiere sido aplicada  y acompañar al recurso el comprobante de pago , salvo que la sanción  sea otra distinta a la mul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urso de Reclamación (jurisdiccional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reclamo judicial  se ventila de acuerdo al procedimiento sumario  y a su vez , la sentencia  que recaiga  en este procedimiento , será susceptible  de apelación  y demás recurs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acogiere el reclamo judicial , con  la sentencia  hay que solicitar  el Director Servicio  correspondiente  la devolución del pago de la m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anc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n variadas y dependerán del tipo y gravedad de la infracción  comet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 las sanciones está la cancelación de la autorización de funcionamiento  del local o su clausura  temporal , el decomiso , destrucción o desnaturalización de productos , o la m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anc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multa es la sanción más recurr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irector tiene una gran amplitud  para su aplicación ya que puede hacerlo desde un mínimo de 1/10 de unidad tributaria  mensual  hasta un máximo de 1000 unidades tributarias mensuales, sin perjuicio que la reincidencia  puede ser sancionada con el doble de la multa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ncautación de bienes o espec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nventa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cta de Incaut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ipos de 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gún el tipo de denuncia o denunci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MARIO DE OFIC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MARIO POR DENUNC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Inicio del Sumario Sanitario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: Se investigan los hechos  y se tomarán las de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itación al “presunto” infractor y/o responsable  para que concurra un día y hora determin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mparecencia  de Descar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entarse con todos los medios de prueba , incluyendo testigos, documentos, pericias,testimonios etc. Que ayuden a desvirtuar  modificar o atenuar  los hechos constitutivos de la “presunta” infra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 Que sucede con la no comparecencia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edimento de concurrir a compare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tivos para no concurrir:  No se tiene clara la defensa (si la hay), no están disponibles los medios de defensa ( protocolos de análisis, exámenes  clí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viso de no concurrencia por escrito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e presunto infractor no comparece , se resuelve y se  sanciona tan solo con el mérito del acta  del insp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Sumario Sanit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NOTIFIC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¿QUIÉNES LAS HAC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¿QUE DEBE CONTENER UNA CITAC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imera cit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13:41:12Z</dcterms:created>
  <dc:creator>alejandro martinez</dc:creator>
  <dc:description/>
  <dc:language>en-US</dc:language>
  <cp:lastModifiedBy>Recetario Magistral FASA</cp:lastModifiedBy>
  <dcterms:modified xsi:type="dcterms:W3CDTF">2002-08-12T23:21:29Z</dcterms:modified>
  <cp:revision>13</cp:revision>
  <dc:subject/>
  <dc:title>SUMARIO SANITARIO</dc:title>
</cp:coreProperties>
</file>